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2A8-AD74-462E-AB47-9C58FFE7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DBE-3F4B-4217-B2AB-FF6FCD14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8BF-5A05-4752-AF5C-E7B98FED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8B5-102F-42AA-B6EF-51F8D97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8AD-9DA4-4A1B-B3CF-483A113F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ED0-D058-4350-B6BF-0BB2834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A25-DCFC-413D-87B5-5AD5817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397-235B-4B73-9E17-98EBB945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957-FEB5-4CAF-AD24-646D75B5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FA0-1BA0-499E-B58C-61969E0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D3A-A53D-4B03-946B-DE511C4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B7A-C7E7-4CEA-8DC4-C8909A1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94D-E2A2-4DCE-BDD1-83AD13A07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5720" y="304920"/>
            <a:ext cx="3837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Arial"/>
                <a:ea typeface="方正姚体"/>
              </a:rPr>
              <a:t>论概理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838080"/>
            <a:ext cx="3352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dztm@qq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850159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从以下几个方面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行为主体是监理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企业是指取得企业法人营业执照，具有监理资质证书的依法从事建设工程监理业务活动的经济组织。实行监理监理的建设工程，由业主委托具有相应资质条件的监理企业实施监理。只有监理企业才能按照独立自主的原则，以“公正的第三方”的身份开展监理业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需要业主的委托和授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实施需要业主的委托和授权业主也    即建设单位或项目法人，是委托监理的一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9144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有明确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关法律、法规、规章和标准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是由全国人大及常委会制定的。行政法规是由国务院制定的。如《建筑工程质量管理条理》。部门规章是由建设部会同有关部门制定的。如《工程监理企业资质管理规定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工程建设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国家批准的工程建设项目可行性研究报告、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项目选址意见书、建设用地规划许可证、建设工程规划许可证、批准的设计文件、施工许可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委托监理合同和有关的建设合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83808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810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7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监理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工程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★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国务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0.1.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质量管理条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十二条     下列建设工程必须实行监理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、援助资金的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001.1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范围和规模标准规定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～七条     下列建设工程必须实行监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重点建设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依据《国家重点建设项目管理办法》所确定的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民经济和社会发展有重大影响的骨干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中型公用事业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项目总投资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以上的下列工程项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供水、供电、供气、供热等市政工程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技、教育、文化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、旅游、商业等项目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生、社会福利等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公用事业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片开发建设的住宅小区工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建筑面积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平方米以上的住宅建设工程；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米以下的住宅建设工程，可以实行监理。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住宅质量，对高层住宅及地基、结构复杂的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住宅应当实行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外国政府或者国际组织贷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工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世界银行、亚洲开发银行等国际组织贷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援助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外政府及其机构贷款资金的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国际组织或者国外政府援助资金的项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规定必须实行监理的其他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总投资额在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万元以上关系社会公共利益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公共安全的下列基础设施项目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煤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石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化工、天然气、电力、新能源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铁路、公路、管道、水运、民航以及其他交通运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业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邮政、电信枢纽、通信、信息网络等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防洪、灌溉、排涝、发电、引（供）水、滩涂治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水资源保护、水土保持等水利建设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道路、桥梁、地铁和轻轨交通、污水排放及处理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垃圾处理、地下管道、公共停车场等城市基础设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项目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f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生态环境保护项目；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其他基础设施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学校、影剧院、体育场馆项目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阶段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用于工程建设的决策阶段和实施阶段，目前主要是实施阶段中的施工监理（勘察、设计监理较少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建设工程监理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服务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知识、技能、经验为业主提供服务，不必为被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方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承包（工期、投资、质量、安全等），也没有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承担承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科学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是知识密集型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是为业主提供的一种高智能的技术服务，这就要求从事建设监理活动应当遵循科学的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单位在人事上和经济上都是独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工程监理的独立性，是公正性的基础和前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工程建设监理规定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应按照“公正、独立、自主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则开展工程建设监理工作，公平地维护项目法人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监理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单位不得承包工程，不得经营建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、构配件和建筑机械、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：监理工程师不得在政府机关或施工、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备制造、材料供应单位兼职，不得是施工、设备制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材料、构配件供应单位的合伙经营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公正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以事实为依据，以有关法律和有关合同为准绳，在主动维护业主的合法权益时，不损害和侵犯承建单位的合法权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由于监理是受业主委托为业主服务，很难真正做到绝对公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章  建设工程监理与相关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法规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建设工程监理与政府工程质量监督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838080"/>
          <a:ext cx="8229600" cy="5197680"/>
        </p:xfrm>
        <a:graphic>
          <a:graphicData uri="http://schemas.openxmlformats.org/drawingml/2006/table">
            <a:tbl>
              <a:tblPr/>
              <a:tblGrid>
                <a:gridCol w="1447920"/>
                <a:gridCol w="342900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设工程监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府工程质量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施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受业主委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政府强制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依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、合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、法规、技术标准、设计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服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目标控制（四控）、合同管理、信息管理、组织协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（安全）监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续、全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阶段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控制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、法律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政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监理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429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五、建设工程监理的中心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有效地控制建设项目的目标，也即控制工程项目投资、进度和质量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六、建设工程监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有利于提高建设工程投资决策科学化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有利于规范工程建设参与各方的建设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有利于促使承建单位保证建设工程质量和使用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有利于实现建设工程投资效益最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2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理论基础和现阶段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设工程监理的理论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项目管理学，以组织论、控制论和管理学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基础，结合建设工程项目和建筑市场的特点而形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门学科。研究范围包括管理思想、管理体制、管理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织、管理方法和管理手段。研究对象是建设工程项目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目标的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现阶段建设工程监理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服务的对象具有单一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为建设单位服务，不为承建单位提供管理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属于强制推行的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筑法》第三十条   国家推行建筑工程监理制度。国务院可以规定实行强制监理的建筑工程的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国务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3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建设工程质量管理条例》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了必须实行监理的建设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具有监督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事前、事中、事后控制。在事前、事中控制方面工作深度远超国际通常深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监理市场准入的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企业资质和人员资格双重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、我国建设工程监理的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加强法制建设，走法制化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以市场需求为导向，向全方位、全过程监理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施工阶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策阶段和勘察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适应市场需求，优化工程监理企业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综合性和专业性监理企业相结合、大中小型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企业相结合的合理的企业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加强培训工作，提高监理队伍人员的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与国际惯例接轨，走向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3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工程法律法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建筑工程法律法规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建筑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全国人大及其常委会审议颁布的属于建筑方面的各项法律，是建筑立法的最高层次，是建筑工程法律法规体系的核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筑行政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指国务院依法制定或者核准发布的属于建筑方面的法规。（包括国务院直接发布的，也包括由国家计委或建设部等相关部门联合发布的、由国务院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部门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建设部根据国务院规定的职责范围，依法制定并发布的各项规章。（其中包括建设部与国务院相关部门联合制定并发布的规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地方法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人大会及其常委会制定并颁步的建筑法规；或由省、自治区人民政府所在地（包括国务院批准的较大城市）的市人大会及其常委会制定的，并报省、自治区人大会及其常委会批准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五）地方规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由省、自治区、直辖市和省、自治区人民政府所在地（包括国务院批准的较大城市）的人民政府，根据法律和国务院行政法规制定发布的建筑法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建筑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8.3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人大常委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建设工程质量管理条例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.1.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、《建设工程安全生产管理条例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4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务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、《工程建设监理规定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6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六、《建设工程监理范围和规模标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1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七、《注册监理工程师管理规定 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4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八、《工程监理企业资质管理规定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.8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4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筑工程监理规范与相关文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《建设工程监理规范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1.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国家质量技术监督局和建设部联合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国家标准，不属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《关于落实建设工程安全生产监理责任的若干意见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.10.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、《房屋建筑工程施工旁站监理管理办法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2.7.17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5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建设程序和建设工程管理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、建设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一项工程建设项目从设想、选择、评估、决策、设计、施工到竣工验收、投入生产或交付使用的整个建设过程中，各项工作必须遵循的先后次序的法则，是工程建设项目科学决策和顺利进行的重要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§1-1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监理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、监理制产生的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 ）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传统的工程建设管理体制已不适应我国经济发展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的管理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单位自筹自管形式和工程指挥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传统管理形式的缺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多是临时性的、非专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手段单一，强调行政管理手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投资管理权，却不对投资承当责任，也不负责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的收回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457200"/>
            <a:ext cx="4876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出项目建议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371600"/>
            <a:ext cx="4952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制可行性研究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209680"/>
            <a:ext cx="4952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咨询评估情况对建设项目进行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0481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批准的可行性研究报告编制设计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9880"/>
            <a:ext cx="5029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步设计经批准后，做好施工前的各项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648320"/>
            <a:ext cx="5867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织施工，并根据施工进度做好生产或动工前的准备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86400"/>
            <a:ext cx="8305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目按照批准的设计内容建成，经投料试车验收合格后正式投产交付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324480"/>
            <a:ext cx="754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产运营一段时间，进行项目后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建设工程各阶段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项目建议书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行性研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计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施工安装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产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竣工验收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坚持建设程序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依法管理工程建设，保证正常建设秩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决策，保证投资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实施建设工程，保证工程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顺利开展建设工程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建设程序与建设工程监理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监理提出了规范化的建设行为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为建设工程监理提出了具体的任务和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程序明确了工程监理企业在工程项目建设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坚持建设程序是监理人员的基本职业准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严格执行我国建设程序是结合中国国情推行建设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制的具体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二、建设工程主要管理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按照社会主义市场经济原则和现代企业制度进行工程管理，实行项目法人制、招标投标制、工程监理制和合同管理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项目法人责任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法人集责、权、利于一体，他们既是投资者，又是投资使用者和投资偿还者，并对工程项目实行全过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项目法人的设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织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职责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设项目董事会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7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项目法人责任制与建设工程监理制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项目法人责任制是实行建设工程监理的必要条件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建设工程监理制是实行项目法人责任制的基本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工程招标投标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必须招标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招标投标法》第三条    在中华人民共和国境内进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下列工程建设项目包括项目的勘察、设计、施工、监理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及与工程建设有关的重要设备、材料等的采购，必须进行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招标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大型基础设施、公用事业等关系社会公共利益、公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安全的项目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全部或者部分使用国有资金投资或者国家融资的项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使用国际组织或者外国政府贷款、援助资金的项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公开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邀请招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招标程序及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准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方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招标代理机构或办理招标备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制招标有关文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招标投标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布招标广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投标人进行资格预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投标人现场勘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答投标人的疑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编制投标文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文件传送与签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决标成交阶段的主要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标、评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中标通知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方订立书面合同 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标人向有关行政监督部门提交招标投标情况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追究违反招标投标法行为的法律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定招标无效，责令改正后重新招标；对单位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或其他直接责任人或其他直接责任者给予行政或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分；没收非法所得并处以罚金，构成犯罪的依法追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刑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建设工程监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准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守法、诚信、公正、科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主要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工程项目建设投资、建设工期、工程质量和安全；进行工程建设合同管理和信息管理，协调有关单位的工作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建设工程监理的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业主委托监理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接委托和招标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签订建设工程监理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组建项目监理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建设工程监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监理工程师主持、安排有关专业监理工程师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规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监理规划的基础上由专业监理工程师编写监理细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监理规划和监理细则，规范化地开展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达到竣工条件后，总监理工程师组织专业监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师进行竣工预验收，并签署工程质量评估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理业务完成后，项目监理机构应当向业主提交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项目监理档案资料并做出监理工作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工程监理企业实行资质审批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监理工程师实行资格考试和注册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四）合同管理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同管理制的基本内容是：工程项目建设的勘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、施工、材料设备采购和建设工程监理都要依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合同，各类合同都要有明确的质量要求、履约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和违约处罚条款。违约方要承当相应的法律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工程建设领域改革深化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以来，我国对投资体制、工程管理体制进行了改革，实行项目法人责任制、招标投标制、合同管理制等，投资有偿使用，投资主体多元化，工程项目的承建主体向智力密集型的总承包单位为主转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加强与以上相适应的监督管理和横向制衡，业主需要社会化、专业化的支持力量以减少投资风险，需要第三方进行协调和约束，进行合同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对外开放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善投资环境需要监理（国际惯例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我国建筑业进入国际建筑市场需要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二）我国建设工程监理制度的起源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云南鲁布革水电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工的西安三元高速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世行项目京津高速公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建设部向全国建设系统印发第一个建设监理文件《关于开展建设监理工作的通知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南鲁布革水电站引水工程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、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遂洞，调压井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钢管斜井），是利用世界银行贷款的项目，日本大成建设公司承包，中标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4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4.10~1986.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进度快、质量好、消耗低、投资省，主要经验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竞争机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施工实行全过程总承包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施工现场的管理机构和作业队伍精干灵活，管理人员责权明确，劳务人员实行合同制，按需就地招聘，工资分配奖勤罚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组织施工，讲求综合经济效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布革工程管理经验推动我国建筑业的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快推行招标投标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和健全企业经营机制，使之成为自主经营、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盈亏、自我发展、责权利紧密结合的经济实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项目经理负责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建设工程监理负责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三）推行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88-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试点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点单位：八市二部——北京、上海、天津、南京、宁波、沈阳、哈尔滨、深圳和能源、交通两部的水电、公路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-199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为稳定发展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底全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省、自治区、直辖市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部推行监理制，受监工程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其中全国大中型水电工程、铁路工程、大部分国道和高等级公路工程全部实行了监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96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至今为全面推行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二、建设工程监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一）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具有相应资质的工程监理企业，接受建设单位（业主）的委托和授权，依据国家批准的工程建设文件、有关工程建设的法律、法规和建设监理合同及其他工程建设合同，承担其项目管理工作，并代表业主对承建单位的建设行为进行监控的专业化服务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11T13:34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