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79D-97FC-4D92-90EE-C3860FEA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F11-C816-4902-8DB5-D8A9FE70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59E-BCCA-4678-90F4-5CD3AA06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3C1-10C0-4F5B-835F-39527D9A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5DA-E81D-487B-9AF8-57D34FD4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770-C037-42C7-973E-64576D2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566-3F36-4C81-9EFE-B3441CEC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E7F-6E2B-4A53-A282-156B4205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CF5-5C41-45C4-B537-15B6F32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4EF-6684-43AA-B376-98B7F2D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432-4C7E-421B-9D9C-E4A783D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172-7BCB-4C8C-8538-4462845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110-0484-4B52-8144-BCDBAF979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第三章  建设工程目标控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2852280"/>
            <a:ext cx="7200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1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目标控制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2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任务和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主动控制和被动控制的关系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仅主动控制是不可能的，有时也是不经济的，仅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动控制又难以保证实现项目目标，因此，必须主动控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和被动控制两者相结合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879480" y="15699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17560" y="134136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556000" y="1569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1280" y="1341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程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299200" y="15699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137280" y="134136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975360" y="1569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6594480" y="1798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908680" y="2484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5298840" y="271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51280" y="24843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3088800" y="27129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74560" y="248436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防和纠偏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2022480" y="1798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5908680" y="37800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查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H="1">
            <a:off x="5375160" y="4008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3927600" y="378000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2784240" y="4008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336680" y="378000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测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V="1">
            <a:off x="2022480" y="2941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目标控制的前提工作</a:t>
            </a:r>
            <a:br>
              <a:rPr sz="36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目标规划和计划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目标规划和计划与目标控制关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规划和计划是目标控制的前提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目标规划和计划处于动态变化之中，要根据内部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素和外部环境的变化，适当地进行调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目标规划需要多次反复进行，目标规划和计划与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标控制之间表现为一种交替出现的循环关系，但这种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环不是简单的重复，而是在新的基础上不断前进的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环，每一次循环都是对上次循环的完善，都有新的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容，新的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目标控制的效果在很大程度上取决于目标规划和计划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合理确定并分解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制定可行且优化的计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置目标控制机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配备合适的监理人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落实机构、人员的任务和职能分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理组织目标控制的工作流程和信息流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2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三大目标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大目标以合同为核心，形成既对立又统一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。三大目标系统，是一个相互制约相互影响的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，不能将三大目标割裂开来孤立的分析和论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0"/>
          <p:cNvSpPr/>
          <p:nvPr/>
        </p:nvSpPr>
        <p:spPr>
          <a:xfrm>
            <a:off x="3851280" y="299736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476360" y="148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6300720" y="148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3851280" y="4724280"/>
            <a:ext cx="1081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 flipH="1" flipV="1">
            <a:off x="2556000" y="1773000"/>
            <a:ext cx="12952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V="1">
            <a:off x="4932360" y="169992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4356000" y="35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971640" y="5013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97164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97164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680400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1979280" y="1052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738000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7956720" y="1773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6"/>
          <p:cNvSpPr/>
          <p:nvPr/>
        </p:nvSpPr>
        <p:spPr>
          <a:xfrm flipH="1">
            <a:off x="4932000" y="5013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219564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减少←进度加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2700360" y="10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增加←→进度加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324000" y="443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增加←→质量提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0" y="501336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投资减少←质量控制严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/>
          <p:cNvSpPr/>
          <p:nvPr/>
        </p:nvSpPr>
        <p:spPr>
          <a:xfrm>
            <a:off x="5003640" y="4437000"/>
            <a:ext cx="33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度加快←→质量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4"/>
          <p:cNvSpPr/>
          <p:nvPr/>
        </p:nvSpPr>
        <p:spPr>
          <a:xfrm>
            <a:off x="5003640" y="494172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5"/>
          <p:cNvSpPr/>
          <p:nvPr/>
        </p:nvSpPr>
        <p:spPr>
          <a:xfrm>
            <a:off x="507672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证进度←质量控制严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目标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多目标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优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层次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的确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应用建设工程数据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定类似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工程差异及其对目标确定的影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考虑时间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项目监理目标应力求使项目目标系统最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系统如何最优往往由业主确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项目使用功能与质量合格目标必须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的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目标分解的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能分能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工程部位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区别对待，有粗有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有可靠的数据来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目标分解结构与组织分解结构相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目标分解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工程内容分解：适合投资、进度、质量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投资内容构成分解：适合投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资金使用时间分解：适合投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含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投资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投资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有效的投资控制工作和具体的投资控制措施，在满足进度和质量的前提下，力求使工程实际投资不超过计划投资。建设工程投资控制不是单一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260440" y="4538520"/>
            <a:ext cx="320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105200" y="4309920"/>
            <a:ext cx="115524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投资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460840" y="430992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度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2260440" y="530064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241880" y="507204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5842080" y="507204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划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>
            <a:off x="2260440" y="6367320"/>
            <a:ext cx="320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5460840" y="613872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质量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708360" y="400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89040" y="4691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489040" y="5757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5214960" y="5145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系统控制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投资控制是针对整个建设工程目标系统所实施的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制活动的一个组成部分，是与进度控制和质量控制同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进行的，在实施投资控制的同时要兼顾进度目标和质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目标的实现。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投资控制贯穿于各个实施阶段，从决策阶段就开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进行控制，并将投资控制贯穿于建设工程实施的过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直至整个工程建成且保修期结束。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对建设工程按投资构成内容和工程内容进行分解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各项投资进行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进度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进度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有效的进度控制工作和具体的进度控制措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满足投资和质量的前提下，力求使工程实际工期不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计划工期。建设工程进度控制不是单一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系统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采取进度控制措施时，不能片面追求进度目标而忽视投资目标和质量目标的实现，应综合考虑三大目标的实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保证进度目标的前提下，将对投资目标和质量目标的影响减少到最低程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调整进度目标，不影响或基本不影响投资目标和质量目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适当调整目标，并对投资目标和质量目标作相应的调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1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目标控制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控制流程及其基本环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定工程实施计划、衡量工程实际情况、分析偏差产生的原因、采取纠偏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度控制贯穿于项目建设全过程。在建设工程的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期应当编制项目总进度计划，充分考虑各阶段工作之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的搭接，并要抓好关键线路的进度控制。</a:t>
            </a:r>
            <a:br>
              <a:rPr sz="4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3600"/>
            </a:b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所有工程内容及其进度以及影响进度的各种因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都要进行控制。 </a:t>
            </a:r>
            <a:br>
              <a:rPr sz="28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五）组织协调是实现有效进度控制的关键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质量控制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建设工程质量控制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通过有效的质量控制工作和具体的质量控制措施，在满足投资和进度要求的前提下，实现工程预定的质量目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注意：对于合同约定的质量目标，必须保证不得低于国家强制质量标准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系统控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避免不断提高质量目标的倾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确保基本质量目标的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尽可能发挥质量控制对投资和进度目标的积极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全过程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根据建设工程各阶段质量控制的特点，确定各阶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质量控制的目标和任务，以便实现全过程质量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各个阶段的每个环节，实施全过程控制，尤其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意设计阶段和施工阶段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加强施工过程的质量检验。</a:t>
            </a: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四）全方位控制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建设工程所有内容的质量进行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质量目标的所有内容进行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影响质量目标的所有因素进行控制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五）质量控制的特殊问题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对建设工程质量实行三重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施者自身的质量控制，这是从产品生产者角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进行的质量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政府对工程质量的监督，这是从社会公众角度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行的质量控制。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监理单位的质量控制，这是从业主角度或者说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从产品需求者角度进行的质量控制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工程质量事故处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及时处理，对不合格的工程必须及时返工或返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基本要求：减少一般性工程质量事故，杜绝工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质量重大事故。故监理单位要尽可能做到主动控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制、事前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黑体"/>
                <a:ea typeface="黑体"/>
              </a:rPr>
              <a:t>§3-3 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建设工程目标控制的任务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和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一、建设工程设计阶段和施工阶段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设计阶段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工作表现为创造性的脑力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是决定建设工程价值和使用价值的主要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是影响建设工程投资的关键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工作需要反复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不同专业之间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随设计阶段的深入，细化、优化设计需要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与业主、有关主管部门之间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质量对建设工程总体质量有决定性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施工阶段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以执行计划为主的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实现建设工程价值和使用价值的主要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是资金投入量最大的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阶段需要协调的内容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质量对建设工程总体质量起保证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持续时间长、风险因素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同关系复杂，合同争议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建设工程目标控制的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控制任务： 收集资料，协助制定投资目标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划，开展技术经济分析，审核预算，优化设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控制任务： 协助确定工期，制定总进度计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助各设计单位开展一体化设计，提供基础资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外部的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控制任务： 了解业主建设意图，协助制定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规划，优化设计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施工招投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协助业主编制招标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协助业主编制标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做好投标资格预审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组织开标、评标、定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三）施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投资控制的任务：付款控制、变更费用控制、索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费用控制、控制费用不超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度控制任务审查进度计划，动态控制、协调关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索赔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质量控制的任务：对施工投入、施工和安装过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出品进行全过程控制及对施工单位和人员资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机、料、法、环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三、建设工程目标控制的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组织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技术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经济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同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21800" cy="643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流程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br>
              <a:rPr sz="40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程实施计划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71500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838080" y="1676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693432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2286000" y="1676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76520" y="289548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纠正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248520" y="2666880"/>
            <a:ext cx="1447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衡量工程实际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693432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6171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724280" y="472428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状况与计划目标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41907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4191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895480" y="5791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81080" y="464832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1981080" y="548640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2286000" y="3885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1295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V="1">
            <a:off x="1295280" y="16765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2514600" y="3352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"/>
          <p:cNvSpPr/>
          <p:nvPr/>
        </p:nvSpPr>
        <p:spPr>
          <a:xfrm flipV="1">
            <a:off x="4419720" y="1904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3429000" y="24382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1692360" y="981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66294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990720" y="603576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3419640" y="1413000"/>
            <a:ext cx="22096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控制流程的基本环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偏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偏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50292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400800" y="1600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678168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324480" y="28954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243792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447920" y="28954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纠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82880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476360" y="1700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36232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114800" y="16002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0" y="37162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投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计划要求投入资源和施工方法、信息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源包括人力、物力、财力等，应控制投入的数量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量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 flipV="1">
            <a:off x="2411280" y="2133720"/>
            <a:ext cx="3889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转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投入到产出的转换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转换过程受到多种因素的干扰，易产生偏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计划本身往往存在问题，从而造成实际输出与计划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之间发生偏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反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控制的基础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馈的内容包括已发生的工程状况、环境变化等，也包括未来的预测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４、对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将目标的实际值与计划值进行比较，以确定是否发生偏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、纠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目标实际值偏离计划值的情况要采取措施加以纠正。三种纠偏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直接纠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改变总的计划目标，调整后期实施计划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新确定计划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建设工程目标控制来说，纠偏一般是针对正偏差而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二、控制类型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措施作用于控制对象的时间分为：事前控制、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事中控制、事后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信息的来源分为：前馈控制和反馈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过程是否形成闭合回路分为：开环控制和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环控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控制措施的出发点分为主动控制和被动控制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一）主动控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主动控制是预先分析各种风险因素，预测其导致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偏离的可能性和程度，有针对性的拟定和采取预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措施，以减少或避免目标偏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主动控制是事前控制、前馈控制、开环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11280" y="378936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11280" y="3789360"/>
            <a:ext cx="1727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偏离目标的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076720" y="3789360"/>
            <a:ext cx="122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采取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093080" y="3789360"/>
            <a:ext cx="143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或减少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47636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42116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630072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（二）被动控制</a:t>
            </a: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动控制是一种事中控制和事后控制，反馈控制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闭环控制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009880" y="32972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771640" y="3068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15400" y="3097080"/>
            <a:ext cx="91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219560" y="3297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05360" y="3068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定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6353280" y="3297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039080" y="299232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施纠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7800840" y="344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7039080" y="4211640"/>
            <a:ext cx="1447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H="1">
            <a:off x="6352920" y="4440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905360" y="42879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集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H="1">
            <a:off x="4295520" y="4516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847960" y="428796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评定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39640" y="429264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成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 flipH="1">
            <a:off x="2085480" y="4516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 flipV="1">
            <a:off x="1324080" y="352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网中漫步</cp:lastModifiedBy>
  <dcterms:modified xsi:type="dcterms:W3CDTF">2011-04-09T09:35:39Z</dcterms:modified>
  <cp:revision>37</cp:revision>
  <dc:subject/>
  <dc:title>PowerPoint Presentation</dc:title>
</cp:coreProperties>
</file>