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51D1-FF51-40CA-9FD5-3EE6494CE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F6E1-A95B-4EBC-8CBE-27E7DEE82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1E72-61A5-4DDF-87A1-7E2794080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C70E-5290-4880-AC87-2925D7116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012C-6AB5-4816-971A-F3525C83D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4FBF-AF2E-4501-A7AB-71B0EB034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2901-82C7-4423-8E0F-6F06B8382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232A-905A-42A6-B3AC-D94A4C3C2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5F86-DB95-491D-8509-1AC9C806D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935E-BE29-4DC9-A896-B510AF24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980A-943E-4F1B-AB1C-C9B7F7EB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E428-97C9-4EB5-A810-B704F08E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9AAFA-6639-4B04-9B95-1EC8EC10B56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0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黑体"/>
                <a:ea typeface="黑体"/>
              </a:rPr>
              <a:t>第四章 建设工程风险管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2997000"/>
            <a:ext cx="6656400" cy="309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黑体"/>
                <a:ea typeface="黑体"/>
              </a:rPr>
              <a:t>§4-1 </a:t>
            </a: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风险管理概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黑体"/>
                <a:ea typeface="黑体"/>
              </a:rPr>
              <a:t>§4-2 </a:t>
            </a: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建设工程风险识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黑体"/>
                <a:ea typeface="黑体"/>
              </a:rPr>
              <a:t>§4-3 </a:t>
            </a: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建设工程风险分析与评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黑体"/>
                <a:ea typeface="黑体"/>
              </a:rPr>
              <a:t>§4-4 </a:t>
            </a: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建设工程风险对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）风险分析与评价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将风险事件发生的可能性和损失进行定量化的过程。包括确定风险发生概率、潜在损失程度、风险决策变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）风险对策决策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根据风险评价的结果，确定风险事件最佳对策组合的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）实施决策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对风险对策所作出的决策进一步落实具体的计划和措施。包括制定预防措施、应急方案，签订保险合同等。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）风险检查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风险对策的执行情况不断进行检查，并评价其执行效果。包括检查决策是否执行、决策执行效果、确定是否需要新的风险处理方案、是否有遗漏风险或新的风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（三）风险管理的目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在风险事件发生前，使潜在损失最小，减少忧虑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相应的忧虑价值，满足外部的附加义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在风险事件发生后，使实际损失减少到最低程度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保证建设工程实施的正常进行，在必要时承当社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责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黑体"/>
                <a:ea typeface="黑体"/>
              </a:rPr>
              <a:t>§4-2 </a:t>
            </a:r>
            <a:r>
              <a:rPr b="1" lang="zh-CN" sz="4400" spc="-1" strike="noStrike">
                <a:solidFill>
                  <a:srgbClr val="cc3300"/>
                </a:solidFill>
                <a:latin typeface="黑体"/>
                <a:ea typeface="黑体"/>
              </a:rPr>
              <a:t>建设工程风险识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黑体"/>
                <a:ea typeface="黑体"/>
              </a:rPr>
              <a:t>一、风险识别的特点和原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（一）风险识别的特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个别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主观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复杂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不确定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42984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（二）风险识别的原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由粗及细，由细及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由粗及细指先全面分析，再逐渐分解细化，列出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程初始风险清单；由细及粗指从工程初始风险清单中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定主要风险，作为风险评价以及风险对策决策的主要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严格界定风险内涵并考虑风险因素之间的相关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先怀疑，后排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排除与确认并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必要时，可作实验论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黑体"/>
                <a:ea typeface="黑体"/>
              </a:rPr>
              <a:t>二、风险识别的过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过对经验数据的分析、风险调查、专家咨询、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验论证等方式，在对建设工程风险进行分解的过程中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认识工程风险，建立工程风险清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-360" y="188640"/>
            <a:ext cx="93582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黑体"/>
                <a:ea typeface="黑体"/>
              </a:rPr>
              <a:t>三、建设工程风险分解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建设工程风险分解是根据工程风险的相互关系将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解成若干个子系统，使风险识别具有较好的准确性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完整性和系统性，是工程项目风险识别的核心工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解工程风险的原则是由宏观到微观、由大系统到小系统、由总体到细节、层层分解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解途径：目标维、时间维、结构维、因素维。有时需要几种方法组合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黑体"/>
                <a:ea typeface="黑体"/>
              </a:rPr>
              <a:t>四、风险识别的方法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专家调查法：开会、问卷调查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财务报表法：查资产负债表、现金流量表、营业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及有关补充资料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流程图法：按流程找出各步骤或各阶段的风险因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或风险事件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初始清单法：可快速、有效、全面地初步认识风险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经验数据法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风险调查法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黑体"/>
                <a:ea typeface="黑体"/>
              </a:rPr>
              <a:t>§4-3 </a:t>
            </a:r>
            <a:r>
              <a:rPr b="1" lang="zh-CN" sz="4400" spc="-1" strike="noStrike">
                <a:solidFill>
                  <a:srgbClr val="cc3300"/>
                </a:solidFill>
                <a:latin typeface="黑体"/>
                <a:ea typeface="黑体"/>
              </a:rPr>
              <a:t>建设工程风险分析与评价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50112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黑体"/>
                <a:ea typeface="黑体"/>
              </a:rPr>
              <a:t>一、风险分析与评价的目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更准确地认识风险，确定风险发生的概率大小和概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布、风险对项目的影响、风险之间的作用、风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先后顺序和风险的主次之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制定更加合理和可执行的风险管理计划，进而保证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标规划的合理性和计划的可行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可合理选择风险管理对策，有助于决策者制定更完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应急计划，有效选择风险防范措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使项目在成本估计和进度安排方面更现实、更可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提高决策者的决策水平，加强风险意识，提高风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管理水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黑体"/>
                <a:ea typeface="黑体"/>
              </a:rPr>
              <a:t>二、风险量函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黑体"/>
                <a:ea typeface="黑体"/>
              </a:rPr>
              <a:t>     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R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i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f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i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p,q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式中：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 ——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风险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风险发生的概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风险的潜在损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黑体"/>
                <a:ea typeface="黑体"/>
              </a:rPr>
              <a:t>三、风险损失的衡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建设工程风险损失包括以下几方面，都可以归纳为经济损失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投资风险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进度风险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质量风险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安全风险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黑体"/>
                <a:ea typeface="黑体"/>
              </a:rPr>
              <a:t>§4-1 </a:t>
            </a:r>
            <a:r>
              <a:rPr b="1" lang="zh-CN" sz="4400" spc="-1" strike="noStrike">
                <a:solidFill>
                  <a:srgbClr val="cc3300"/>
                </a:solidFill>
                <a:latin typeface="黑体"/>
                <a:ea typeface="黑体"/>
              </a:rPr>
              <a:t>风险管理概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黑体"/>
                <a:ea typeface="黑体"/>
              </a:rPr>
              <a:t>一、风险的定义和基本要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（一）风险的含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定义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风险就是与出现损失有关的不确定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定义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风险就是在给定情况下和特定时间内，可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发生的结果之间的差异（或实际结果与预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果之间的差异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风险要具备的条件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确定性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产生损失后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黑体"/>
                <a:ea typeface="黑体"/>
              </a:rPr>
              <a:t>四、风险概率的衡量</a:t>
            </a:r>
            <a:br>
              <a:rPr sz="40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主观概率估计法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相对比较法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客观概率估计法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概率分布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黑体"/>
                <a:ea typeface="黑体"/>
              </a:rPr>
              <a:t>五、风险评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评价风险潜在后果：用风险量来表示。图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3"/>
          <p:cNvSpPr/>
          <p:nvPr/>
        </p:nvSpPr>
        <p:spPr>
          <a:xfrm>
            <a:off x="971640" y="587700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"/>
          <p:cNvSpPr/>
          <p:nvPr/>
        </p:nvSpPr>
        <p:spPr>
          <a:xfrm flipV="1">
            <a:off x="971640" y="400500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rc 8"/>
          <p:cNvSpPr/>
          <p:nvPr/>
        </p:nvSpPr>
        <p:spPr>
          <a:xfrm flipH="1" flipV="1">
            <a:off x="1692360" y="4507920"/>
            <a:ext cx="1728720" cy="936360"/>
          </a:xfrm>
          <a:custGeom>
            <a:avLst/>
            <a:gdLst>
              <a:gd name="textAreaLeft" fmla="*/ 360 w 1728720"/>
              <a:gd name="textAreaRight" fmla="*/ 1729440 w 1728720"/>
              <a:gd name="textAreaTop" fmla="*/ -360 h 936360"/>
              <a:gd name="textAreaBottom" fmla="*/ 936360 h 9363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rc 9"/>
          <p:cNvSpPr/>
          <p:nvPr/>
        </p:nvSpPr>
        <p:spPr>
          <a:xfrm flipH="1" flipV="1">
            <a:off x="2267640" y="4292640"/>
            <a:ext cx="1800360" cy="936720"/>
          </a:xfrm>
          <a:custGeom>
            <a:avLst/>
            <a:gdLst>
              <a:gd name="textAreaLeft" fmla="*/ -360 w 1800360"/>
              <a:gd name="textAreaRight" fmla="*/ 1800360 w 1800360"/>
              <a:gd name="textAreaTop" fmla="*/ 360 h 936720"/>
              <a:gd name="textAreaBottom" fmla="*/ 937440 h 9367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rc 10"/>
          <p:cNvSpPr/>
          <p:nvPr/>
        </p:nvSpPr>
        <p:spPr>
          <a:xfrm flipH="1" flipV="1">
            <a:off x="1332000" y="4580640"/>
            <a:ext cx="2016000" cy="1081080"/>
          </a:xfrm>
          <a:custGeom>
            <a:avLst/>
            <a:gdLst>
              <a:gd name="textAreaLeft" fmla="*/ 360 w 2016000"/>
              <a:gd name="textAreaRight" fmla="*/ 2016720 w 2016000"/>
              <a:gd name="textAreaTop" fmla="*/ -360 h 1081080"/>
              <a:gd name="textAreaBottom" fmla="*/ 1081080 h 10810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971640" y="3573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4227480" y="60102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3995640" y="5445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4"/>
          <p:cNvSpPr/>
          <p:nvPr/>
        </p:nvSpPr>
        <p:spPr>
          <a:xfrm>
            <a:off x="1258920" y="602136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等风险量曲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15"/>
          <p:cNvSpPr/>
          <p:nvPr/>
        </p:nvSpPr>
        <p:spPr>
          <a:xfrm>
            <a:off x="4643280" y="5877000"/>
            <a:ext cx="29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16"/>
          <p:cNvSpPr/>
          <p:nvPr/>
        </p:nvSpPr>
        <p:spPr>
          <a:xfrm flipV="1">
            <a:off x="4643280" y="400500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7"/>
          <p:cNvSpPr/>
          <p:nvPr/>
        </p:nvSpPr>
        <p:spPr>
          <a:xfrm>
            <a:off x="4643280" y="3573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概率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8"/>
          <p:cNvSpPr/>
          <p:nvPr/>
        </p:nvSpPr>
        <p:spPr>
          <a:xfrm>
            <a:off x="6948360" y="537372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潜在损失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9"/>
          <p:cNvSpPr/>
          <p:nvPr/>
        </p:nvSpPr>
        <p:spPr>
          <a:xfrm>
            <a:off x="4930920" y="602136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风险等级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20"/>
          <p:cNvSpPr/>
          <p:nvPr/>
        </p:nvSpPr>
        <p:spPr>
          <a:xfrm>
            <a:off x="4643280" y="4292640"/>
            <a:ext cx="223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21"/>
          <p:cNvSpPr/>
          <p:nvPr/>
        </p:nvSpPr>
        <p:spPr>
          <a:xfrm>
            <a:off x="4643280" y="4797360"/>
            <a:ext cx="223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22"/>
          <p:cNvSpPr/>
          <p:nvPr/>
        </p:nvSpPr>
        <p:spPr>
          <a:xfrm>
            <a:off x="4643280" y="5373720"/>
            <a:ext cx="223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23"/>
          <p:cNvSpPr/>
          <p:nvPr/>
        </p:nvSpPr>
        <p:spPr>
          <a:xfrm>
            <a:off x="6877080" y="429264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24"/>
          <p:cNvSpPr/>
          <p:nvPr/>
        </p:nvSpPr>
        <p:spPr>
          <a:xfrm>
            <a:off x="5364000" y="429264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25"/>
          <p:cNvSpPr/>
          <p:nvPr/>
        </p:nvSpPr>
        <p:spPr>
          <a:xfrm>
            <a:off x="6084720" y="429264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26"/>
          <p:cNvSpPr/>
          <p:nvPr/>
        </p:nvSpPr>
        <p:spPr>
          <a:xfrm>
            <a:off x="4788000" y="4365720"/>
            <a:ext cx="2448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     H     V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       M      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L     L      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黑体"/>
                <a:ea typeface="黑体"/>
              </a:rPr>
              <a:t>六、风险分析与评价的步骤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收集资料：资料必须客观、可统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建立不确定性模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对风险的潜在后果进行评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黑体"/>
                <a:ea typeface="黑体"/>
              </a:rPr>
              <a:t>§4-4 </a:t>
            </a:r>
            <a:r>
              <a:rPr b="1" lang="zh-CN" sz="4400" spc="-1" strike="noStrike">
                <a:solidFill>
                  <a:srgbClr val="cc3300"/>
                </a:solidFill>
                <a:latin typeface="黑体"/>
                <a:ea typeface="黑体"/>
              </a:rPr>
              <a:t>建设工程风险对策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黑体"/>
                <a:ea typeface="黑体"/>
              </a:rPr>
              <a:t>一、风险回避</a:t>
            </a:r>
            <a:br>
              <a:rPr sz="36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指以一定的方式中断风险源，使其不发生或不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发展，从而避免可能产生的潜在风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、两种途径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拒绝承担风险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放弃以前承担的风险以避免更大的损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、应注意问题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回避一种风险可能产生另一种新的风险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回避风险的同时也失去了从风险中获益的可能性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回避风险可能不实际或不可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黑体"/>
                <a:ea typeface="黑体"/>
              </a:rPr>
              <a:t>二、损失控制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指采用措施降低或消除损失发生的概率，从而降低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损失的严重性或遏制损失的进一步发展，使损失最小化。        </a:t>
            </a:r>
            <a:br>
              <a:rPr sz="2800"/>
            </a:b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、内容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预防损失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减少损失</a:t>
            </a:r>
            <a:br>
              <a:rPr sz="2800"/>
            </a:b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、损失控制计划系统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包括预防计划、灾难计划、应急计划三方面。他们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之间的关系如下：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3"/>
          <p:cNvSpPr/>
          <p:nvPr/>
        </p:nvSpPr>
        <p:spPr>
          <a:xfrm>
            <a:off x="2203560" y="5813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755640" y="5661000"/>
            <a:ext cx="14479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损失和危险分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5"/>
          <p:cNvSpPr/>
          <p:nvPr/>
        </p:nvSpPr>
        <p:spPr>
          <a:xfrm>
            <a:off x="2203560" y="6041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6"/>
          <p:cNvSpPr/>
          <p:nvPr/>
        </p:nvSpPr>
        <p:spPr>
          <a:xfrm>
            <a:off x="2203560" y="6346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3117960" y="5661000"/>
            <a:ext cx="914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预防计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032360" y="5889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9"/>
          <p:cNvSpPr/>
          <p:nvPr/>
        </p:nvSpPr>
        <p:spPr>
          <a:xfrm>
            <a:off x="4032360" y="6270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4946760" y="5737320"/>
            <a:ext cx="11430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风险事件发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12"/>
          <p:cNvSpPr/>
          <p:nvPr/>
        </p:nvSpPr>
        <p:spPr>
          <a:xfrm>
            <a:off x="6089760" y="6118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6470640" y="5661000"/>
            <a:ext cx="914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灾难计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14"/>
          <p:cNvSpPr/>
          <p:nvPr/>
        </p:nvSpPr>
        <p:spPr>
          <a:xfrm>
            <a:off x="7385040" y="6118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6"/>
          <p:cNvSpPr/>
          <p:nvPr/>
        </p:nvSpPr>
        <p:spPr>
          <a:xfrm>
            <a:off x="7689960" y="5737320"/>
            <a:ext cx="914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应急计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黑体"/>
                <a:ea typeface="黑体"/>
              </a:rPr>
              <a:t>三、风险自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将风险留给自己承当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   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、类型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）非计划性风险自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由于风险管理人员没有意识到某些风险的存在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或者不曾有意识地采取有效措施，以致风险发生后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好由自己承当。该风险自留是非计划性的和被动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导致原因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缺乏风险意识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风险识别失误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风险评价失误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风险决策延误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风险决策实施延误。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50112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）计划性风险自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风险管理人员在经过风险识别和风险评价后作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风险对策决策。该风险是主动的、有意识的、有计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计划性风险自留的计划性主要体现在风险自留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平和损失支付两方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风险自留水平是指选择哪些风险事件作为风险自留的对象，一般应选择风险量小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黑体"/>
                <a:ea typeface="黑体"/>
              </a:rPr>
              <a:t>   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、损失支付方式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从现金净收入中支出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建立非基金储备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自我保险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母公司保险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   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、风险自留的适用条件（至少符合条件之一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别无选择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期望损失不严重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损失可准确预测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企业有短时间内承受最大潜在损失的能力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投资机会很好（或机会成本很大）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内部服务优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黑体"/>
                <a:ea typeface="黑体"/>
              </a:rPr>
              <a:t>四、风险转移</a:t>
            </a:r>
            <a:br>
              <a:rPr sz="3600"/>
            </a:br>
            <a:r>
              <a:rPr b="1" lang="zh-CN" sz="3600" spc="-1" strike="noStrike">
                <a:solidFill>
                  <a:srgbClr val="cc33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风险转移是指风险由有关各方分担。</a:t>
            </a:r>
            <a:br>
              <a:rPr sz="2800"/>
            </a:b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、风险分担应遵循的两个原则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任何一种风险都应由最适宜承担该风险或最有能力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进行损失控制的一方承担；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必须让承担风险者得到相应的报答。</a:t>
            </a:r>
            <a:br>
              <a:rPr sz="2800"/>
            </a:b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、风险转移的形式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非保险转移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业主将合同责任和风险转移给对方当事人；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承包商进行合同转让或工程分包；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三方担保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保险转移</a:t>
            </a:r>
            <a:br>
              <a:rPr sz="2800"/>
            </a:br>
            <a:r>
              <a:rPr b="1" lang="zh-CN" sz="3600" spc="-1" strike="noStrike">
                <a:solidFill>
                  <a:srgbClr val="cc3300"/>
                </a:solidFill>
                <a:latin typeface="黑体"/>
                <a:ea typeface="黑体"/>
              </a:rPr>
              <a:t>五、风险对策决策过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（二）与风险相关的概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、风险因素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指能产生或增加损失概率和损失程度的条件或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素，是风险事件发生的潜在原因，是造成损失的内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或间接原因。风险因素通常有三种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自然风险因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道德风险因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心理风险因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、风险事件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指造成损失的偶发事件，是造成损失的外在或直接原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风险只有通过风险事件的发生，才能导致风险损失。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、风险损失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指非故意的、非计划的和非预期的人身及财产经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价值的减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损失分为直接损失、间接损失、隐蔽损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、损失机会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指损失出现的概率。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概率分客观概论和主观概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客观概论是某事件在长时间内发生的频率。确定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法有：演绎法、归纳法、统计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主观概率是个人对某事件发生可能性的估计。其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果受很多因素的影响，如个人的受教育程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专业知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水平、实践经验以及年龄、性别、性格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（三）风险要素之间的关系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br>
              <a:rPr sz="4000"/>
            </a:br>
            <a:br>
              <a:rPr sz="2000"/>
            </a:br>
            <a:r>
              <a:rPr b="1" lang="zh-CN" sz="3600" spc="-1" strike="noStrike">
                <a:solidFill>
                  <a:srgbClr val="cc3300"/>
                </a:solidFill>
                <a:latin typeface="黑体"/>
                <a:ea typeface="黑体"/>
              </a:rPr>
              <a:t>二、风险的分类</a:t>
            </a:r>
            <a:br>
              <a:rPr sz="2800"/>
            </a:b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、按风险的后果分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纯风险：指只会造成损失而不会带来收益的风险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投机风险：指既可能造成损失也可能带来收益的风险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3"/>
          <p:cNvSpPr/>
          <p:nvPr/>
        </p:nvSpPr>
        <p:spPr>
          <a:xfrm>
            <a:off x="1676520" y="22860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1066680" y="1676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1143000" y="1066680"/>
            <a:ext cx="5493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764640" y="1371600"/>
            <a:ext cx="911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风险因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2850480" y="1341360"/>
            <a:ext cx="911880" cy="15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风险事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8"/>
          <p:cNvSpPr/>
          <p:nvPr/>
        </p:nvSpPr>
        <p:spPr>
          <a:xfrm>
            <a:off x="3733920" y="22860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904640" y="1447920"/>
            <a:ext cx="91188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风险损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0"/>
          <p:cNvSpPr/>
          <p:nvPr/>
        </p:nvSpPr>
        <p:spPr>
          <a:xfrm flipV="1">
            <a:off x="5867280" y="2276640"/>
            <a:ext cx="1225800" cy="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7093080" y="1413000"/>
            <a:ext cx="18223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实际结果与预期结果的差异，即风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1676520" y="1828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产生或增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3995640" y="184464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引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5"/>
          <p:cNvSpPr/>
          <p:nvPr/>
        </p:nvSpPr>
        <p:spPr>
          <a:xfrm>
            <a:off x="6095880" y="18288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产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、按风险产生的原因分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政治风险、社会风险、经济风险、自然风险、技术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险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、按风险的影响范围分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基本风险：指作用于整个经济或大多数人群的风险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具有普遍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特殊风险：指仅作用于某一特定单体的风险，不具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普遍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、按风险分析依据分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客观风险、主观风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、按风险分布情况分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国别（地区）风险、行业风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、按风险潜在损失形态分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财产风险、人身风险、责任风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7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、按风险的性质分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管理风险和不可管理风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、按风险后果的承担主体分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业主的风险、承包商的风险、投资方风险、设计单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风险、监理单位风险、供应商风险、政府风险、担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方风险、保险公司风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9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、按风险的可预测性分为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已知风险、可预见风险、不可预见风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黑体"/>
                <a:ea typeface="黑体"/>
              </a:rPr>
              <a:t>三、建设工程风险与风险管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（一）建设工程风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、建设工程风险大且具有多样性、复杂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建设周期长，涉及的风险因素多，风险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常按风险产生的原因将风险分为政治风险、社会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险、经济风险、自然风险、技术风险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、参建各方均有风险，但各方的风险各不相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本课程主要是从业主的角度进行分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、参与工程项目的各方主体承受风险的能力不尽相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、工程项目风险具有可变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0" y="0"/>
            <a:ext cx="95011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（二）风险管理的过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、风险管理的概念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所谓风险管理是识别、度量项目风险，制定、选择和实施风险处理方案的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风险管理是一个动态的、循环的、系统的完整的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、风险管理的过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）风险识别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指通过一定的方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系统而全面地识别出影响建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工程目标实现的风险事件并加以适当归类的过程。包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项目风险分解、项目风险调查、确立风险清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11-30T02:25:25Z</dcterms:modified>
  <cp:revision>40</cp:revision>
  <dc:subject/>
  <dc:title>PowerPoint Presentation</dc:title>
</cp:coreProperties>
</file>